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171C-02CD-4837-9A68-2CADA963E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icipants explored the importance of inclusive teaching which is focused on important mathematics and improved student achievement, throug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iating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aching through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stablishing math-talk learning comm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essing for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Link collective thinkpads to end product of the breakouts and ple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cipants investigated interconnections among these critical learnings as enabled through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fearless speaking and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questioning to expose thi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responding to provide appropriate scaffolding and challe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cipants engaged in differentiated professional learning related to the critical learnings, focused through a personalized and precise le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functions-based curricul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teaching through the mathematical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effective uses of manipulatives and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consistency and alignment of assessment of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of fragile state of content knowledge for teaching by teachers with whom we and other steering team leads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focus on CKT-M; a new vision with a focus on the big ideas in PtoA; anc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 and continued need to support MoE’s sharpened focus on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year’s breakout sessions will now be interwoven throughout all sessions; these will support participants in their exploration of the big ideas and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igate interconnections among these critical learnings as enabled throug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less speaking and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ing to expos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ing to provide appropriate scaffolding and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c planning to embed student success indicators with framework for math camppp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networks within and across boards will continue to grow leadership across the prov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ight of this year’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aching for Math GA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, a coaching dimension (specifically co-planning) will be embedded within the camppp.  This will provide participants with the opportunity to deepen their understanding of the big ideas and consider applications of DI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B8A-3D7F-42BF-B162-33FF9E36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DC7-0AE6-41AB-8B88-9FF95105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B3F-9DCA-42E0-9943-9A5491A7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23B-4671-4531-BFA6-395BB441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E2DB-A96B-4BC0-A892-7408DAF7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1817-F262-42E2-B3FB-C7AAF5F3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6688-97E0-4408-B486-C10CE556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6DFF-3963-4E1E-A028-4CE0B541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27FA-EF22-4758-B8FC-C8D78917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A869-0D63-43E7-8B75-6C3B9ED4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8C47-8AE7-461D-8F1E-21C5B80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058-8FD0-4726-B32E-E80AE26D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CE13-8EEE-4783-8261-28914288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BBAB-088E-46E5-98DB-1742A668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6097-BCC2-498D-A235-92703721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A636-A296-4F30-BFE2-DEF0D7F4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5E24-19C9-4ED1-847C-0BCFD50D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2D6-EBB3-47A9-811B-6966E23A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4EE-1C2C-4D7D-945A-E1FCA64B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E73-C759-4547-80D8-43FB58B7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ABA-1BC1-40D7-AA27-F41F3F1F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9FE-86F5-4175-854F-E4718CEE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7C9-CE67-4F84-99C7-AECA5272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412-4A01-46F2-A098-EA6E3A9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70B7-5DD1-441E-A802-5EEC9570E10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6A62-8536-4BEA-99C7-5F5D869038C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08360" y="1268280"/>
            <a:ext cx="59040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GAINS Summ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Math CAMPPP Planning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July 13</a:t>
            </a:r>
            <a:r>
              <a:rPr b="0" lang="en-US" sz="3600" spc="-1" strike="noStrike" baseline="30000">
                <a:solidFill>
                  <a:srgbClr val="0d469b"/>
                </a:solidFill>
                <a:latin typeface="Arial"/>
                <a:ea typeface="Arial"/>
              </a:rPr>
              <a:t>th</a:t>
            </a: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 – 17</a:t>
            </a:r>
            <a:r>
              <a:rPr b="0" lang="en-US" sz="3600" spc="-1" strike="noStrike" baseline="30000">
                <a:solidFill>
                  <a:srgbClr val="0d469b"/>
                </a:solidFill>
                <a:latin typeface="Arial"/>
                <a:ea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Fern Resort, Oril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720720"/>
            <a:ext cx="914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Math CAMPPP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9051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nections to S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Math CAMPPP 2009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, 100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33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ol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, Grades 7 and/or 8 teachers (may include one or more other Grades from K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, Grades 9, 10, 11 and/or 12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, Coach / Consultant /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 Speci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33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6,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,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33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aching for Math GAI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, Coaches /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1, Coach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, N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Math CAMPPP 2009 Schedule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9051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12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Reflecting on the Vision for Math CAMPPP 2009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155680"/>
            <a:ext cx="8362800" cy="30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ide-outsid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330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MC’s form the inner circle &amp; facilitators form the outside circl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330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at excites you most about Math CAMPPP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1371600" indent="-330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at challenge do you anticipate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reak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Goals for Math CAMPPP Planning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lenary and breakout sessions will be developed based on the SS Indicators, the Ministry’s sharpened focus on differentiating instruction through questioning, and the development of content knowledge for teaching - for CAMPPP, SI, and beyo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ntional connections across plenary and breakout sessions will be established as developed through the lens of the big ideas for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Agenda Structure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1840" y="1817640"/>
            <a:ext cx="87328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with Marian Small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Resource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TCH template, TIPS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iculum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47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Initial Planning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6280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cilitators &amp; PMC’s together within session grou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47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Ice Breaker…Getting to Know the Group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“like” (session) groups of th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e down two truths about yourself and a lie (personal and/or professio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the three "facts" to the rest of the group who will try to guess which one is a l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Establishing Norm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uggestions will be presented with the intent to move the collective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ering is option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CAMPPP 2009 Planning Week Agenda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Math CAMPPP 2008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2168280"/>
            <a:ext cx="774072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213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Garamond"/>
              </a:rPr>
              <a:t>An idea can turn into dust or magic, depending on the talent that rubs up against i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213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13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ill Bernou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44720" y="841320"/>
            <a:ext cx="5334120" cy="579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79640" y="2565360"/>
            <a:ext cx="3492720" cy="3930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952640"/>
            <a:ext cx="209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earless Speaking and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89760" y="1376280"/>
            <a:ext cx="211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ponding to Provide Appropriate Scaffolding 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74760" y="93204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Questioning to Expose 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3600" y="2060640"/>
            <a:ext cx="1609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stablishing Math Talk Learning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27640" y="2355840"/>
            <a:ext cx="176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ssessment fo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40160" y="1419120"/>
            <a:ext cx="206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eaching through Problem Sol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63880" y="1413000"/>
            <a:ext cx="16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ifferentiated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0560" y="411336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ffective Uses of Manipulative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7640" y="2889360"/>
            <a:ext cx="15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Teaching through the Mathematical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14920" y="519264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onsistency and Alignment of Assessments of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51280" y="4184640"/>
            <a:ext cx="143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Functions-Based Curr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5400" y="5397480"/>
            <a:ext cx="164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Building Networks Within and Across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50240" y="562608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ff"/>
                </a:solidFill>
                <a:latin typeface="Arial"/>
              </a:rPr>
              <a:t>Creating Collective Thinkp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0520" y="3098880"/>
            <a:ext cx="1654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Deepening Understanding of Pedagogical Conten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1080" y="330984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Focusing on Important Mathe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920"/>
            <a:ext cx="644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Vision for Math CAMPPP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Math CAMPPP 2008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147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33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ol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Grades 7 &amp; 8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Grades 9 &amp; 10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Grades 11 &amp; 12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System l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33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fe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336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Math Qualification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/J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,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S; Honours Math Specialist,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,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95640" y="3122640"/>
            <a:ext cx="3205080" cy="3619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000" y="21985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earless Speaking and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3080" y="1430280"/>
            <a:ext cx="183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ponding to Provide Appropriate Scaffolding 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3120" y="9619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Questioning to Evoke and Expose 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416736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stablishing Math Talk Learning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59280" y="495936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ssessment fo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4720" y="2583000"/>
            <a:ext cx="26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Differentiated Instruction through Quest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851360"/>
            <a:ext cx="16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ffective Uses of Manipulative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3446640"/>
            <a:ext cx="30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Teaching through the Mathematical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5672160"/>
            <a:ext cx="20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onsistency and Alignment of Assessments of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5211720"/>
            <a:ext cx="164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Building Networks Within and Across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93080" y="5211720"/>
            <a:ext cx="169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Engaging in Reflective Practice through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9800" y="1312920"/>
            <a:ext cx="273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Deepening Understanding of Pedagogical Conten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30560" y="189864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Focusing on Important Mathe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27280" y="2185920"/>
            <a:ext cx="4140360" cy="4591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87300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Big Ideas of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920"/>
            <a:ext cx="644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Vision for Math CAMPPP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1840" y="1852560"/>
            <a:ext cx="169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eaching for Conceptual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657360"/>
            <a:ext cx="5616360" cy="6167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09-07-13T17:36:43Z</dcterms:modified>
  <cp:revision>128</cp:revision>
  <dc:subject/>
  <dc:title>Slide 1</dc:title>
</cp:coreProperties>
</file>